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arbrak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D97-3162-47A0-91AA-2F85EE90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143-1971-40AD-B999-6F07F500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9AE-E21E-461C-80A4-73821CE2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BEB4-AC56-4161-A0F9-FAE4322E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58CA-9C74-4691-8EFD-DAB92A36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EB9-B72E-448C-BBEA-09563E1C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8BEC-4B98-4C33-A4CE-D1F928BE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26BB-60A1-43A3-A688-DA4CA08E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5BC-E054-4D53-B753-C8DAF606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C6F-9C6A-43AB-B701-C638FFA4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FA1F-6063-41D4-80BE-26DF7E05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3C0-3F88-40CA-9225-76EE63CD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BB7F-B5B1-4072-963B-599D58AD5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candale à Clermont-Ferr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volé le « Bibendum »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élèbre effigie des pneus Michel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ONHOMMEMICHELIN" descr=""/>
          <p:cNvPicPr/>
          <p:nvPr/>
        </p:nvPicPr>
        <p:blipFill>
          <a:blip r:embed="rId1"/>
          <a:stretch/>
        </p:blipFill>
        <p:spPr>
          <a:xfrm>
            <a:off x="5562720" y="3733920"/>
            <a:ext cx="208116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09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mystérieux informateur a signalé à la Police qu’il avait aperçu le  Bonhomme-Michelin 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s un bassin de la ville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michelin" descr=""/>
          <p:cNvPicPr/>
          <p:nvPr/>
        </p:nvPicPr>
        <p:blipFill>
          <a:blip r:embed="rId1"/>
          <a:stretch/>
        </p:blipFill>
        <p:spPr>
          <a:xfrm>
            <a:off x="2241720" y="355680"/>
            <a:ext cx="4660560" cy="6146640"/>
          </a:xfrm>
          <a:prstGeom prst="rect">
            <a:avLst/>
          </a:prstGeom>
          <a:ln w="0">
            <a:noFill/>
          </a:ln>
        </p:spPr>
      </p:pic>
      <p:pic>
        <p:nvPicPr>
          <p:cNvPr id="46" name="BONHOMMEMICHELIN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777960" cy="104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00:31:53Z</dcterms:created>
  <dc:creator> </dc:creator>
  <dc:description/>
  <dc:language>en-US</dc:language>
  <cp:lastModifiedBy> </cp:lastModifiedBy>
  <dcterms:modified xsi:type="dcterms:W3CDTF">2003-04-06T00:43:54Z</dcterms:modified>
  <cp:revision>5</cp:revision>
  <dc:subject/>
  <dc:title>Scandale à Clermont-Ferrand</dc:title>
</cp:coreProperties>
</file>